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91C-4432-45A0-936A-101A9E32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78D-499A-4FA6-BBAF-9D4AB02E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A4A-7D43-4650-8CDD-483ADFD3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F31-F15D-44BF-9FA7-0897C6E2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8D8-0378-4D98-AEEF-81049BDF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927-78A0-4596-A092-3275079B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DD5-C107-4CAA-8508-41F488AF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5E0-209C-47E0-87DD-5AA7DA7D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9CB-03AB-4502-9C3D-D25A929C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318-EAC8-4B44-B023-7EF4ABF7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4EA-CA5C-4EF5-A0FD-2D625732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1E4B-5AC8-4D11-A7D1-EB15D714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3A6D-8914-4ED6-91BC-A7051B7BE8ED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ites.google.com/site/frequencyspecificisc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tlab Toolbox for Inter-Subject Correl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924520"/>
            <a:ext cx="64008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70c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403280" y="2208240"/>
            <a:ext cx="6264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fMRI studies utilizing natural stimuli such as movies, music, and video games are getting more and more popular (see, for example [1]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Because these stimuli are extremely complex, modeling hemodynamic responses using the GLM becomes inconveni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Inter-subject correlation (ISC) analysis does not require modeling of the hemodynamic response and has been succesfully applied to investigate natural stimulus fMRI data sets [2-4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Comprehensive and easy-to-use toolbox to study the brain based on ISCs would be benefic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Runs on Matlab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Reads in preprocessed and registered fMRI data either in mat- or nifti-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The best way to avoid compatibility problems is to preprocess and register your data with the FS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Graphical User Interface (GUI) developed fo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-setting-up your analysis parameters correc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-easy and quick visualization of the res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Access of the results is fast and easy also directly using command line op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The use of Matlab’s memory mapping feature avoids many problems associated with large data sets (in terms of both memory and spee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xel-wise ISC analysis across </a:t>
            </a: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bj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calculation of voxel-wise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correlation matrice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 permutation based inference on the average of the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1)/2 subject-pairwise correlation coefficients for each voxel 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above analysis can be perform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across the whole scanning s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within the specified time-windows to obtain time-varying ISC ma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within distinct frequency-subbands to obtain frequency-specific ISC maps 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Mor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Calibri"/>
              </a:rPr>
              <a:t>In addition to mean ISC maps, one can investigate other maps including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the corresponding median, lower quartile, upper quartile and standard deviation map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t statistical maps [4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contrast maps to compare ISC between frequency bands [3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Calibri"/>
              </a:rPr>
              <a:t>More features will be added to the toolbox in the near futur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he maximum amount of memory required to run group ISC analysis is determined by the size of the fMRI data of a SINGLE subject (consider also memory limitation of Matla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o run analysis in feasible time, we highly recommend grid computation unless very powerful computer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After running the analysis, quick visualization and command line access of the results should be possible using your personal lapto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Avai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2320920"/>
            <a:ext cx="87138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ree toolbox is available via the following lin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i-FI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ites.google.com/site/frequencyspecifici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any questions, conta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Jukka-pekka.kauppi {at} tut.f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605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1]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. Spiers and E. Maguire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oding human brain activity during real-world experiences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nds in Cognitive Sciences, vol. 11, no. 8, pp. 356-365, August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2] Hasson et al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“Intersubject synchronization of cortical activity during natural vision,” Science, vol. 303, no. 5664, pp. 1634–1640, March 200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3] Kauppi et al: 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-subject correlation of brain hemodynamic responses during watching a movie: localization in space and frequency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rontiers in Neuroinformatics, March 2010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4] Wilson et al: “Beyond superior temporal cortex: Intersubject correlations in narrative speech comprehension,” Cereb. Cortex, vol. 18, no. 1, pp. 230–242, January 200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4:30:30Z</dcterms:created>
  <dc:creator>Jukkis</dc:creator>
  <dc:description/>
  <dc:language>en-US</dc:language>
  <cp:lastModifiedBy>Jukkis</cp:lastModifiedBy>
  <dcterms:modified xsi:type="dcterms:W3CDTF">2010-07-16T01:19:36Z</dcterms:modified>
  <cp:revision>101</cp:revision>
  <dc:subject/>
  <dc:title>Matlab Toolbox for Inter-Subject Correlation Analysis</dc:title>
</cp:coreProperties>
</file>